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83C1-C99A-4928-996D-A70924D0E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Webpage to follow TBS standards on web usability, accessibility, interoperability and standard on mobile de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Portal to align with broader GC single-sign on identity management initi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to follow guidelines in the Communications Policy of the GC, such as alignment with government priorities and adherence to the FI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to be contracted through PWGSC, ensuring openness, fairness and transparen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External advertising also to be coordinated with PCO, pre-tested, measured and reported on aftewar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V commercials to feature stock LAC images/videos and instrumental music, similar in style to recent Veterans Affairs a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comptrollership best practices into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arently manage resources and resource allo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sure value for money and operational effici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y rigorous system for financial info mgmt, internal audit and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s on any audit or evaluation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udget wrap-up and rigorous comptrollership practices to be foll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er priority 1 in our Business Plan 2013-16, we seek to better acquire information resources that represent Canadian socie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er priority 1 in our Business Plan 2013-16, we also seek to acquire digital-born content, which includes content produced on the we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 already has a vibrant social media presence. We should leverage to maximize the reach and uptake of this campa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BP prioritie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cquire information resources that represent Canadian society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mprove documentary heritage preservation in analogue and digital format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improve access to and distribution of content with digital technologies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dopt a more collaborative approach to carry out the mandate and support documentary heritage communities;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velop the infrastructure and new competencies required to ensure documentary heritage management in the 21st centu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 should be provided to support these statements made in the Speech from the Thr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l LAC examples and data should be drawn upon to support these statem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ntegration with data.gc.ca and open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anada.ca super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ingle sign-on identity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Great room for growth on Instagram, Pinterest – social media is still an emerging opportunity, especially in gover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re open collection equates to more transpar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etter operational efficiency to meet budget cuts ($98.3M in 2013 to $90M in 201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Social media is a way that lets us turn vision and policy into concrete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t’ll make us more operationally effici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flects changing departmental nee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llows us to connect with our audiences – collaboration, stakeholder engage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ets us listen to and respect stakeholder vie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acilitates the exchanging of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50 – percentage of world population under 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96 – percentage of millenials/Gen Y (with internet access) that have joined a social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avid Robinson, “the admiral” due to his service in US navy, famous center for San Antonio Spurs (played with them whole care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rtez Kennedy, famous defensive tackle for Seattle Seahawks (played with them his whole career), inducted this year into hall of fa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Users can submit content using the social media vehicle of their choice (not only ones LAC already uses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ike I mentioned lots of room for growth on platforms such as Pinterest and Inst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velop prizes/grants for best/most original submiss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or the future – a tagline with imp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Be part of something bigger – a slogan to provide more contex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e whole is greater than the sum of its part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is the campaign and slogan pitch, representing an overarching 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This will have been developed after internal consultation with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s plan elemen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erall goals – define the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on and 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al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get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kground and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materi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es and responsi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 and lessons learn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nsultations to occur through vehicles outlined in the next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LAC’s thee sector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Office of the Librarian and Archivist of Canada, Collaboration Sector and Audit and Evalu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ief Operating Officer S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rporate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Feedback from employees helps foster a climate of transparency, trust and respect in the work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More feedback from more sources the better, to form a comprehensive perspect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heck for interdependencies with other departmental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rizontal and vertical info shar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Communicate the vision clearly to employ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legate appropriate tasks to managers and work one-on-one with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Realistic timelines and accounta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dentify resources and lim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2E8-78EF-4D98-985C-E7E8F897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4BB-A5AF-440F-A109-F638AEDE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12E5-C0A7-4620-B49C-07C67932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F672-C9AA-4FF0-8385-4181A72E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5199-2620-4FC6-917B-A79ED1AF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BC1B-10FE-4A3C-853A-3897998F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D7C-52A0-4339-9651-36DB1943C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1C32-5F77-41BB-8DEB-F57836C6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E812-3736-4820-89BA-677FB694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80FA-DB99-4757-BD1E-901AD0D3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68F5-24E2-41C1-A2F5-4A92F9D9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402F7-D198-4B6B-9FAC-34699B6B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AF5D-2C10-4420-9763-6860F508C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404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Getting young people on bo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5573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 social media strategy to foster greater youth engagement with L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332000" y="602100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 Decem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nathan W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971800" y="2997360"/>
            <a:ext cx="332892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3. External elements and vehicl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New webpage and portal for overview and submission of content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xisting channels that universities and school commissions already employ to reach their students (intranets, school email, etc.)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xternal advertising vehic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TV commer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Viral marketing on billboards, bus shelters and posters, using #forthefuture and QR codes for mobile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ocial media marketing, leveraging the #forthefuture hashtag and web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4. Budg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ing increase in A-base as per fall 2013 Speech from the Throne devoted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dvertising and media bu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nts and priz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trac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b and portal development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 robust and transparent financial mechanisms for delivering funding and grants/priz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ximize operational efficiency at all ti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692360" y="4854600"/>
          <a:ext cx="5616360" cy="1095480"/>
        </p:xfrm>
        <a:graphic>
          <a:graphicData uri="http://schemas.openxmlformats.org/drawingml/2006/table">
            <a:tbl>
              <a:tblPr/>
              <a:tblGrid>
                <a:gridCol w="1655640"/>
                <a:gridCol w="2089080"/>
                <a:gridCol w="187164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dget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en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udget 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5. Evaluation and repor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To measure success/uptake at the end of the campaign, evaluation criteria and key performance indicators will be record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Number of submiss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Webpage vis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Size of television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QR code uptake on smartph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Increase in likes and followers on LAC soci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l criteria to be reported to DG, Library and Archivist and other stakeholder departments (PWGSC, PC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Results archived at L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trategy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ign external programs with Business Plan 2013-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Pursue priority 1 (acquisition) through new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evelop a more inclusive and representative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Further engage y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dapt to and thrive in the changing digital media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gage with youth in their preferred format (online via social med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uild upon LAC’s already successful social media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508720" y="4597560"/>
            <a:ext cx="2378160" cy="1784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6920" y="4662360"/>
            <a:ext cx="2449800" cy="1575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49544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urrent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Young people are less inclined to preserve Canadian history and culture than in the p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urrent LAC collection needs better alignment with Canadian demographics and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Limited knowledge among young people of LAC’s role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lways room for continual growth and refinement on LAC’s social media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92360" y="4076640"/>
            <a:ext cx="58640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esired future st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24000" y="149544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chievement of Business Plan outco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pport of GC digital modernization and social media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 more robust and active social media pres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tter alignment of LAC collection with Canadian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LAC collection more representative of yo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n improved, modernized image of L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tter knowledge among youth of LAC’s role and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2214720"/>
            <a:ext cx="34801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y social med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fall 2013 Speech from the Thr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GC’s web 2.0 and social media 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the GC open data and open government initi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est-growing and most important element in the new digital media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eferred format and engagement method of young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rule of 50-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89560" y="4076640"/>
            <a:ext cx="0" cy="237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4076640"/>
            <a:ext cx="1901880" cy="2376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1936800" cy="2376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strategy and key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457200" y="2935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Submit content using #forthefuture hasht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Be part of something bigger” – a slogan for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A connection from the past to the present to th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reate a sense that youth are contributing something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Inform them they are contributing something lasting and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Create an emotional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5400"/>
            <a:ext cx="86043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33399"/>
                </a:solidFill>
                <a:latin typeface="Verdana"/>
              </a:rPr>
              <a:t>#forthefuture</a:t>
            </a:r>
            <a:br>
              <a:rPr sz="2800"/>
            </a:br>
            <a:r>
              <a:rPr b="1" i="1" lang="en-CA" sz="2800" spc="-1" strike="noStrike">
                <a:solidFill>
                  <a:srgbClr val="333399"/>
                </a:solidFill>
                <a:latin typeface="Verdana"/>
              </a:rPr>
              <a:t>be part of something bi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le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l elements and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elements and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and repor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4643280" y="2781360"/>
            <a:ext cx="384336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1. Roles and responsibil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irector, Web, Social Media and Creative Services to oversee and report on strategy: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Regular approval and feedback from DG and Librarian and Archiv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nsultations and input gathering from employees across LAC’s se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llaboration with university offic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Collaboration with procurement and PWGSC for profession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Tahoma"/>
              </a:rPr>
              <a:t>Liaison with PWGSC and PCO for advertising appr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G reports to Deputy Head, who reports to Min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2. Internal elements and vehicles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Develop feedback for campaign through two-way communication with employees in an open, collaborative fashion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gage with employees through mechanisms such as internal blog postings, GCconnex, intranet pages, surveys and town halls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Ensure to incorporate employee feedback into #forthefuture strategy </a:t>
            </a:r>
            <a:br>
              <a:rPr sz="2000"/>
            </a:b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ahoma"/>
              </a:rPr>
              <a:t>Keep employees apprised of strategy developments and direction on a regular ba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9T14:17:47Z</dcterms:created>
  <dc:creator>OPIC - CIPO</dc:creator>
  <dc:description/>
  <dc:language>en-US</dc:language>
  <cp:lastModifiedBy>OPIC - CIPO</cp:lastModifiedBy>
  <dcterms:modified xsi:type="dcterms:W3CDTF">2014-01-21T00:57:59Z</dcterms:modified>
  <cp:revision>26</cp:revision>
  <dc:subject/>
  <dc:title>Slide 1</dc:title>
</cp:coreProperties>
</file>