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379C-53CB-4BF8-A3F9-AF92A5C41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bpage to follow TBS standards on web usability, accessibility, interoperability and standard on mobile de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rtal to align with broader GC single-sign on identity management 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ternal advertising to follow guidelines in the Communications Policy of the GC, such as alignment with government priorities and adherence to the F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ternal advertising to be contracted through PWGSC, ensuring openness, fairness and transpar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V commercials to feature stock LAC images/videos and instrumental music, similar in style to recent Veterans Affairs a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er priority 1 in our Business Plan 2013-16, we seek to better acquire information resources that represent Canadian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er priority 1 in our Business Plan 2013-16, we also seek to acquire digital-born content, which includes content produced on the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 already has a vibrant social media presence. We should leverage to maximize the reach and uptake of this campa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should be provided to support these statements made in the Speech from the Thr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LAC examples and data should be drawn upon to support these stat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0 – percentage of world population under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96 – percentage of millenials/Gen Y (with internet access) that have joined a social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vid Robinson, “the admiral” due to his service in US navy, famous center for San Antonio Spurs (played with them whole care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rtez Kennedy, famous defensive tackle for Seattle Seahawks (played with them his whole career), inducted this year into hall of f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s can submit content using the social media vehicle of their choice (not only ones LAC already us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prizes/grants for best/most original sub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future – a tagline with i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part of something bigger – a slogan to provide more con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whole is greater than the sum of its part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ampaign and slogan pitch, representing an overarching 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will have been developed after internal consultation with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ultations to occur through vehicles outlined i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AC’s thee sector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ffice of the Librarian and Archivist of Canada, Collaboration Sector and Audit and Eval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ief Operating Officer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rporat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9043-15A2-4F38-A1B2-4590D9FCB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300C-74E5-4A28-B4D6-EAA8CF9F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31A5-99B1-4161-A15E-3CB3C80C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05B2-4949-4A70-9CFB-3FDEE89FF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0E47-C43B-4941-87A7-D36CFB53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1992-0897-4B57-BCD3-7EFBA921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3E6-2811-4F78-BE45-0A74D3FA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2460-AB23-4A1E-8C02-C8B57828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61CE-AB4B-4E06-9D95-CB2F5307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2DA3-D64C-4465-9B91-C1F1AD99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CCC0-2E02-4F53-A43A-6B556264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2BB2-5AFE-417E-9D3F-292053BF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6ABB8-7A28-4783-85EF-DA52030A1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Getting young people on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57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social media strategy to foster greater youth engagement with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2000" y="602100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 December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nathan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2997360"/>
            <a:ext cx="33289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External elements and vehicl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New webpage and portal for overview and submission of content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xisting channels that universities and school commissions already employ to reach their students (intranets, school email, etc.)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xternal advertising vehic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TV commer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Viral marketing on billboards, bus shelters and posters, using #forthefuture and QR codes for mobi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ocial media marketing, leveraging the #forthefuture hashtag and web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4. Bud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ing increase in A-base as per fall 2013 Speech from the Throne devot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ertising and media bu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nts and priz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and portal developmen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robust and transparent financial mechanisms for delivering funding and grants/priz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e operational efficiency at all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92360" y="4854600"/>
          <a:ext cx="5616360" cy="1095480"/>
        </p:xfrm>
        <a:graphic>
          <a:graphicData uri="http://schemas.openxmlformats.org/drawingml/2006/table">
            <a:tbl>
              <a:tblPr/>
              <a:tblGrid>
                <a:gridCol w="1655640"/>
                <a:gridCol w="2089080"/>
                <a:gridCol w="187164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dget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dget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. Evaluation and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o measure success/uptake at the end of the campaign, evaluation criteria and key performance indicators will be recor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Number of submi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Webpage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ize of television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QR code uptake on smart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Increase in likes and followers on LAC soci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ll criteria to be reported to DG, Library and Archivist and other stakeholder departments (PWGSC, PC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Results archived at L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rategy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lign external programs with Business Plan 20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Pursue priority 1 (acquisition) through new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evelop a more inclusive and representative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Further engage y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dapt to and thrive in the changing digital media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gage with youth in their preferred format (online via social me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uild upon LAC’s already successful social media pre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08720" y="4597560"/>
            <a:ext cx="2378160" cy="1784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4662360"/>
            <a:ext cx="2449800" cy="157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08360" y="4653000"/>
            <a:ext cx="14954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Young people are less inclined to preserve Canadian history and culture than in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urrent LAC collection needs better alignment with Canadian demographics an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Limited knowledge among young people of LAC’s role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lways room for continual growth and refinement on LAC’s social media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4076640"/>
            <a:ext cx="58640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esired future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149544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chievement of Business Plan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pport of GC digital modernization and social media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 more robust and active social media pre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etter alignment of LAC collection with Canadian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LAC collection more representative of y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n improved, modernized image of L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etter knowledge among youth of LAC’s role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14720"/>
            <a:ext cx="34801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social me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fall 2013 Speech from the T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GC’s web 2.0 and social media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GC open data and open governmen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est-growing and most important element in the new digital media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ferred format and engagement method of young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ule of 50-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89560" y="4076640"/>
            <a:ext cx="0" cy="237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4076640"/>
            <a:ext cx="1901880" cy="23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193680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trategy and key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93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bmit content using #forthefuture hash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e part of something bigger” – a slogan for the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 connection from the past to the present to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reate a sense that youth are contributing something for future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nform them they are contributing something lasting and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reate an emotional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265400"/>
            <a:ext cx="860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Verdana"/>
              </a:rPr>
              <a:t>#forthefuture</a:t>
            </a:r>
            <a:br>
              <a:rPr sz="2800"/>
            </a:br>
            <a:r>
              <a:rPr b="1" i="1" lang="en-CA" sz="2800" spc="-1" strike="noStrike">
                <a:solidFill>
                  <a:srgbClr val="333399"/>
                </a:solidFill>
                <a:latin typeface="Verdana"/>
              </a:rPr>
              <a:t>be part of something bi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elements and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elements and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and repor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3843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 Roles and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irector, Web, Social Media and Creative Services to oversee and report on strategy: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Regular approval and feedback from DG and Librarian and Archiv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onsultations and input gathering from employees across LAC’s s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ollaboration with university offi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ollaboration with procurement and PWGSC for profession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Liaison with PWGSC and PCO for advertising appr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G reports to Deputy Head, who reports to 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Internal elements and vehicl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evelop feedback for campaign through two-way communication with employees in an open, collaborative fashion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gage with employees through mechanisms such as internal blog postings, GCconnex, intranet pages, surveys and town halls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sure to incorporate employee feedback into #forthefuture strategy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Keep employees apprised of strategy developments and direction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14:17:47Z</dcterms:created>
  <dc:creator>OPIC - CIPO</dc:creator>
  <dc:description/>
  <dc:language>en-US</dc:language>
  <cp:lastModifiedBy>OPIC - CIPO</cp:lastModifiedBy>
  <dcterms:modified xsi:type="dcterms:W3CDTF">2013-12-19T17:28:09Z</dcterms:modified>
  <cp:revision>21</cp:revision>
  <dc:subject/>
  <dc:title>Slide 1</dc:title>
</cp:coreProperties>
</file>